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9E0F-BBFF-40BB-B470-DF657992B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5A10-796B-4B7A-A48C-541EA80DD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8372-5D97-4A74-B4E0-852F2DE90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29CA-0519-4AB3-9BAE-074A39B91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00C0-10FD-49A6-9A7E-4636B2F4E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0A75-C9E7-4E4D-A769-FB67897D6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0B79-7A58-4404-AD9B-ACD976095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0F16-C2FF-4FBE-BDD6-6F3BA0C74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FB10-6E17-4E6F-AC16-D935A7752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нент направлен не только и не столько на разработку конкретных цифровых ресурсов и учебных материалов, но на создание устойчивого потенциала в области производства высококачественных материалов, о чем сказано в целях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ем для этого, на наш взгляд, являе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процедур педагогического дизай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ытание материалов (апроба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BE02-795E-401F-8A0F-53CF8205C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8BCD-9B75-4EEB-8836-E2742773D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AF91-1EA9-4DBE-932A-D21795AC0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волю напомнить, что компонент состоит из трех подкомпонентов, каждый из которых решает свой круг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1B24E-F2DD-4F86-A583-06CD73D7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5077E-A464-48E0-9266-7CD2D468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FD311-6610-4EFF-91C5-87AF8A75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664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664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4ECF1-FDC0-47ED-9805-F08B18F8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C363-FE21-4955-9F0F-12EC6D63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0BAF-CB1D-437E-9F6C-3042AA25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29D1-FC4F-4770-AA4C-C2CEEBFE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CC3E-5991-43FF-AF31-D50C3183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43C8-D4A9-47BB-AD86-11508877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17400" y="301320"/>
            <a:ext cx="73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C028-99C6-47F2-B998-22408AB4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0DA9-4630-4B9D-AE3C-2D1C1E43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99122-57E0-4393-8B0E-4AACA129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214C-15D4-420C-9633-DCE4FD1C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B5A4-BE11-4AA7-905E-01D0AA74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F434-FCC6-4E15-A00C-43C3C612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BCC5-C23D-4D4D-8002-5117D29C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19664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19664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EAC8-749E-42DE-8944-E4ADE996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370EE-668C-4474-826F-40203F58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AFD23-6F4B-4208-823F-DF619DF1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30CAE-F3E8-47AA-8620-DC728A89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17400" y="301320"/>
            <a:ext cx="73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66A38-2BAF-4A97-B45D-697AB81E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585BD-FAA4-4C19-BCF6-3BE2EB2E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7BEE7-8458-4FCE-A677-2AD60C87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77A91-9544-452E-99CE-F26114E2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0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a9cf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1"/>
          <p:cNvSpPr/>
          <p:nvPr/>
        </p:nvSpPr>
        <p:spPr>
          <a:xfrm>
            <a:off x="8008920" y="4168800"/>
            <a:ext cx="1141560" cy="268272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32"/>
          <p:cNvSpPr/>
          <p:nvPr/>
        </p:nvSpPr>
        <p:spPr>
          <a:xfrm>
            <a:off x="8550360" y="6022800"/>
            <a:ext cx="600120" cy="82872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33"/>
          <p:cNvSpPr/>
          <p:nvPr/>
        </p:nvSpPr>
        <p:spPr>
          <a:xfrm>
            <a:off x="9016920" y="6689880"/>
            <a:ext cx="133560" cy="16164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34"/>
          <p:cNvGrpSpPr/>
          <p:nvPr/>
        </p:nvGrpSpPr>
        <p:grpSpPr>
          <a:xfrm>
            <a:off x="457200" y="0"/>
            <a:ext cx="8093160" cy="6851520"/>
            <a:chOff x="457200" y="0"/>
            <a:chExt cx="8093160" cy="6851520"/>
          </a:xfrm>
        </p:grpSpPr>
        <p:sp>
          <p:nvSpPr>
            <p:cNvPr id="5" name="Freeform 35"/>
            <p:cNvSpPr/>
            <p:nvPr/>
          </p:nvSpPr>
          <p:spPr>
            <a:xfrm>
              <a:off x="4427640" y="0"/>
              <a:ext cx="114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36"/>
            <p:cNvSpPr/>
            <p:nvPr/>
          </p:nvSpPr>
          <p:spPr>
            <a:xfrm>
              <a:off x="4903920" y="0"/>
              <a:ext cx="276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37"/>
            <p:cNvSpPr/>
            <p:nvPr/>
          </p:nvSpPr>
          <p:spPr>
            <a:xfrm>
              <a:off x="5330880" y="0"/>
              <a:ext cx="534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38"/>
            <p:cNvSpPr/>
            <p:nvPr/>
          </p:nvSpPr>
          <p:spPr>
            <a:xfrm>
              <a:off x="5835600" y="0"/>
              <a:ext cx="67788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39"/>
            <p:cNvSpPr/>
            <p:nvPr/>
          </p:nvSpPr>
          <p:spPr>
            <a:xfrm>
              <a:off x="6264360" y="0"/>
              <a:ext cx="8856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40"/>
            <p:cNvSpPr/>
            <p:nvPr/>
          </p:nvSpPr>
          <p:spPr>
            <a:xfrm>
              <a:off x="6740640" y="0"/>
              <a:ext cx="109512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41"/>
            <p:cNvSpPr/>
            <p:nvPr/>
          </p:nvSpPr>
          <p:spPr>
            <a:xfrm>
              <a:off x="7178760" y="0"/>
              <a:ext cx="13716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42"/>
            <p:cNvSpPr/>
            <p:nvPr/>
          </p:nvSpPr>
          <p:spPr>
            <a:xfrm>
              <a:off x="3808440" y="0"/>
              <a:ext cx="237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43"/>
            <p:cNvSpPr/>
            <p:nvPr/>
          </p:nvSpPr>
          <p:spPr>
            <a:xfrm>
              <a:off x="3122640" y="0"/>
              <a:ext cx="47628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44"/>
            <p:cNvSpPr/>
            <p:nvPr/>
          </p:nvSpPr>
          <p:spPr>
            <a:xfrm>
              <a:off x="2486160" y="0"/>
              <a:ext cx="67464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45"/>
            <p:cNvSpPr/>
            <p:nvPr/>
          </p:nvSpPr>
          <p:spPr>
            <a:xfrm>
              <a:off x="1790640" y="0"/>
              <a:ext cx="91296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46"/>
            <p:cNvSpPr/>
            <p:nvPr/>
          </p:nvSpPr>
          <p:spPr>
            <a:xfrm>
              <a:off x="1114560" y="0"/>
              <a:ext cx="117000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47"/>
            <p:cNvSpPr/>
            <p:nvPr/>
          </p:nvSpPr>
          <p:spPr>
            <a:xfrm>
              <a:off x="457200" y="0"/>
              <a:ext cx="1333440" cy="685152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Freeform 48"/>
          <p:cNvSpPr/>
          <p:nvPr/>
        </p:nvSpPr>
        <p:spPr>
          <a:xfrm>
            <a:off x="9360" y="4605480"/>
            <a:ext cx="962280" cy="224604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reeform 49"/>
          <p:cNvSpPr/>
          <p:nvPr/>
        </p:nvSpPr>
        <p:spPr>
          <a:xfrm>
            <a:off x="9360" y="6175440"/>
            <a:ext cx="362160" cy="67608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Freeform 50"/>
          <p:cNvSpPr/>
          <p:nvPr/>
        </p:nvSpPr>
        <p:spPr>
          <a:xfrm>
            <a:off x="7581960" y="0"/>
            <a:ext cx="1562040" cy="28353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Freeform 51"/>
          <p:cNvSpPr/>
          <p:nvPr/>
        </p:nvSpPr>
        <p:spPr>
          <a:xfrm>
            <a:off x="8002440" y="0"/>
            <a:ext cx="1141560" cy="13413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Freeform 53"/>
          <p:cNvSpPr/>
          <p:nvPr/>
        </p:nvSpPr>
        <p:spPr>
          <a:xfrm>
            <a:off x="9360" y="0"/>
            <a:ext cx="1362240" cy="223668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Freeform 54"/>
          <p:cNvSpPr/>
          <p:nvPr/>
        </p:nvSpPr>
        <p:spPr>
          <a:xfrm>
            <a:off x="9360" y="0"/>
            <a:ext cx="933480" cy="9507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55"/>
          <p:cNvSpPr/>
          <p:nvPr/>
        </p:nvSpPr>
        <p:spPr>
          <a:xfrm>
            <a:off x="9360" y="0"/>
            <a:ext cx="428760" cy="399960"/>
          </a:xfrm>
          <a:prstGeom prst="pie">
            <a:avLst/>
          </a:prstGeom>
          <a:solidFill>
            <a:srgbClr val="a9c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Line 56"/>
          <p:cNvSpPr/>
          <p:nvPr/>
        </p:nvSpPr>
        <p:spPr>
          <a:xfrm>
            <a:off x="1440" y="4363920"/>
            <a:ext cx="9141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e 57"/>
          <p:cNvSpPr/>
          <p:nvPr/>
        </p:nvSpPr>
        <p:spPr>
          <a:xfrm>
            <a:off x="1440" y="3740040"/>
            <a:ext cx="9141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58"/>
          <p:cNvSpPr/>
          <p:nvPr/>
        </p:nvSpPr>
        <p:spPr>
          <a:xfrm>
            <a:off x="1440" y="498780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" name="Group 59"/>
          <p:cNvGrpSpPr/>
          <p:nvPr/>
        </p:nvGrpSpPr>
        <p:grpSpPr>
          <a:xfrm>
            <a:off x="1440" y="622440"/>
            <a:ext cx="9141120" cy="2493720"/>
            <a:chOff x="1440" y="622440"/>
            <a:chExt cx="9141120" cy="2493720"/>
          </a:xfrm>
        </p:grpSpPr>
        <p:sp>
          <p:nvSpPr>
            <p:cNvPr id="29" name="Line 60"/>
            <p:cNvSpPr/>
            <p:nvPr/>
          </p:nvSpPr>
          <p:spPr>
            <a:xfrm>
              <a:off x="1440" y="124452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Line 61"/>
            <p:cNvSpPr/>
            <p:nvPr/>
          </p:nvSpPr>
          <p:spPr>
            <a:xfrm>
              <a:off x="1440" y="311616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62"/>
            <p:cNvSpPr/>
            <p:nvPr/>
          </p:nvSpPr>
          <p:spPr>
            <a:xfrm>
              <a:off x="1440" y="249228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63"/>
            <p:cNvSpPr/>
            <p:nvPr/>
          </p:nvSpPr>
          <p:spPr>
            <a:xfrm>
              <a:off x="1440" y="186840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64"/>
            <p:cNvSpPr/>
            <p:nvPr/>
          </p:nvSpPr>
          <p:spPr>
            <a:xfrm>
              <a:off x="1440" y="62244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" name="Line 65"/>
          <p:cNvSpPr/>
          <p:nvPr/>
        </p:nvSpPr>
        <p:spPr>
          <a:xfrm>
            <a:off x="1440" y="623556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Line 66"/>
          <p:cNvSpPr/>
          <p:nvPr/>
        </p:nvSpPr>
        <p:spPr>
          <a:xfrm>
            <a:off x="1440" y="5611680"/>
            <a:ext cx="9141120" cy="0"/>
          </a:xfrm>
          <a:prstGeom prst="line">
            <a:avLst/>
          </a:prstGeom>
          <a:ln w="15840">
            <a:solidFill>
              <a:srgbClr val="c9e1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20E7-150B-4A5D-BE23-C69C83AC569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Rectangle 6"/>
          <p:cNvSpPr/>
          <p:nvPr/>
        </p:nvSpPr>
        <p:spPr>
          <a:xfrm>
            <a:off x="60480" y="287280"/>
            <a:ext cx="8802360" cy="604800"/>
          </a:xfrm>
          <a:prstGeom prst="rect">
            <a:avLst/>
          </a:prstGeom>
          <a:gradFill rotWithShape="0">
            <a:gsLst>
              <a:gs pos="0">
                <a:srgbClr val="a9cfb5"/>
              </a:gs>
              <a:gs pos="100000">
                <a:srgbClr val="2f533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f533a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f533a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f533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71"/>
          <p:cNvGrpSpPr/>
          <p:nvPr/>
        </p:nvGrpSpPr>
        <p:grpSpPr>
          <a:xfrm>
            <a:off x="7751880" y="0"/>
            <a:ext cx="1391400" cy="1412280"/>
            <a:chOff x="7751880" y="0"/>
            <a:chExt cx="1391400" cy="1412280"/>
          </a:xfrm>
        </p:grpSpPr>
        <p:sp>
          <p:nvSpPr>
            <p:cNvPr id="43" name="Freeform 52"/>
            <p:cNvSpPr/>
            <p:nvPr/>
          </p:nvSpPr>
          <p:spPr>
            <a:xfrm>
              <a:off x="7751880" y="0"/>
              <a:ext cx="1391400" cy="1412280"/>
            </a:xfrm>
            <a:prstGeom prst="pie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9"/>
            <p:cNvSpPr/>
            <p:nvPr/>
          </p:nvSpPr>
          <p:spPr>
            <a:xfrm>
              <a:off x="8529120" y="0"/>
              <a:ext cx="614160" cy="1173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9cf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27"/>
            <p:cNvGrpSpPr/>
            <p:nvPr/>
          </p:nvGrpSpPr>
          <p:grpSpPr>
            <a:xfrm>
              <a:off x="7950240" y="0"/>
              <a:ext cx="1192680" cy="1172160"/>
              <a:chOff x="7950240" y="0"/>
              <a:chExt cx="1192680" cy="1172160"/>
            </a:xfrm>
          </p:grpSpPr>
          <p:sp>
            <p:nvSpPr>
              <p:cNvPr id="46" name="Rectangle 20"/>
              <p:cNvSpPr/>
              <p:nvPr/>
            </p:nvSpPr>
            <p:spPr>
              <a:xfrm flipH="1">
                <a:off x="8250480" y="289800"/>
                <a:ext cx="296640" cy="30276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21"/>
              <p:cNvSpPr/>
              <p:nvPr/>
            </p:nvSpPr>
            <p:spPr>
              <a:xfrm flipH="1">
                <a:off x="7949880" y="0"/>
                <a:ext cx="299880" cy="29664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22"/>
              <p:cNvSpPr/>
              <p:nvPr/>
            </p:nvSpPr>
            <p:spPr>
              <a:xfrm flipH="1">
                <a:off x="7949880" y="289800"/>
                <a:ext cx="299880" cy="30276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23"/>
              <p:cNvSpPr/>
              <p:nvPr/>
            </p:nvSpPr>
            <p:spPr>
              <a:xfrm flipH="1">
                <a:off x="8543160" y="589680"/>
                <a:ext cx="293760" cy="296640"/>
              </a:xfrm>
              <a:prstGeom prst="rect">
                <a:avLst/>
              </a:prstGeom>
              <a:solidFill>
                <a:srgbClr val="a9c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24"/>
              <p:cNvSpPr/>
              <p:nvPr/>
            </p:nvSpPr>
            <p:spPr>
              <a:xfrm flipH="1">
                <a:off x="8839800" y="292680"/>
                <a:ext cx="302760" cy="296640"/>
              </a:xfrm>
              <a:prstGeom prst="rect">
                <a:avLst/>
              </a:prstGeom>
              <a:solidFill>
                <a:srgbClr val="2f53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25"/>
              <p:cNvSpPr/>
              <p:nvPr/>
            </p:nvSpPr>
            <p:spPr>
              <a:xfrm flipH="1">
                <a:off x="8250480" y="582840"/>
                <a:ext cx="296640" cy="29664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26"/>
              <p:cNvSpPr/>
              <p:nvPr/>
            </p:nvSpPr>
            <p:spPr>
              <a:xfrm flipH="1">
                <a:off x="8543160" y="879480"/>
                <a:ext cx="293760" cy="292680"/>
              </a:xfrm>
              <a:prstGeom prst="rect">
                <a:avLst/>
              </a:prstGeom>
              <a:solidFill>
                <a:srgbClr val="539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a9cf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2f53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0" y="2324160"/>
            <a:ext cx="582480" cy="633240"/>
          </a:xfrm>
          <a:prstGeom prst="rect">
            <a:avLst/>
          </a:prstGeom>
          <a:solidFill>
            <a:srgbClr val="2f53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1"/>
          <p:cNvGrpSpPr/>
          <p:nvPr/>
        </p:nvGrpSpPr>
        <p:grpSpPr>
          <a:xfrm>
            <a:off x="573120" y="1066680"/>
            <a:ext cx="2293920" cy="3157560"/>
            <a:chOff x="573120" y="1066680"/>
            <a:chExt cx="2293920" cy="3157560"/>
          </a:xfrm>
        </p:grpSpPr>
        <p:sp>
          <p:nvSpPr>
            <p:cNvPr id="93" name="Rectangle 6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539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7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8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2f5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539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3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539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4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a9c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5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539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3" descr="Логотип НФПК"/>
          <p:cNvPicPr/>
          <p:nvPr/>
        </p:nvPicPr>
        <p:blipFill>
          <a:blip r:embed="rId2"/>
          <a:stretch/>
        </p:blipFill>
        <p:spPr>
          <a:xfrm>
            <a:off x="289080" y="268200"/>
            <a:ext cx="1546200" cy="1062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f533a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f533a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f533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7AC3-517A-475E-9CC6-67B3C2A03ED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08120" y="1444320"/>
            <a:ext cx="8028000" cy="33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Законы Ньютона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1"/>
          <p:cNvPicPr/>
          <p:nvPr/>
        </p:nvPicPr>
        <p:blipFill>
          <a:blip r:embed="rId1"/>
          <a:stretch/>
        </p:blipFill>
        <p:spPr>
          <a:xfrm>
            <a:off x="480960" y="-19080"/>
            <a:ext cx="866304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2"/>
          <p:cNvPicPr/>
          <p:nvPr/>
        </p:nvPicPr>
        <p:blipFill>
          <a:blip r:embed="rId1"/>
          <a:stretch/>
        </p:blipFill>
        <p:spPr>
          <a:xfrm>
            <a:off x="547560" y="6480"/>
            <a:ext cx="859644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3"/>
          <p:cNvPicPr/>
          <p:nvPr/>
        </p:nvPicPr>
        <p:blipFill>
          <a:blip r:embed="rId1"/>
          <a:stretch/>
        </p:blipFill>
        <p:spPr>
          <a:xfrm>
            <a:off x="487440" y="-27000"/>
            <a:ext cx="865656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4"/>
          <p:cNvPicPr/>
          <p:nvPr/>
        </p:nvPicPr>
        <p:blipFill>
          <a:blip r:embed="rId1"/>
          <a:stretch/>
        </p:blipFill>
        <p:spPr>
          <a:xfrm>
            <a:off x="527040" y="34920"/>
            <a:ext cx="861696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торой  закон Ньюто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2560" y="1883880"/>
            <a:ext cx="663876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Ускорение тела прямо пропорционально равнодействующей сил, приложенных к телу, и обратно пропорционально его м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Второй закон Ньютона"/>
          <p:cNvPicPr/>
          <p:nvPr/>
        </p:nvPicPr>
        <p:blipFill>
          <a:blip r:embed="rId1"/>
          <a:stretch/>
        </p:blipFill>
        <p:spPr>
          <a:xfrm>
            <a:off x="6743880" y="3911760"/>
            <a:ext cx="22096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196640"/>
            <a:ext cx="8229600" cy="4670280"/>
          </a:xfrm>
          <a:prstGeom prst="rect">
            <a:avLst/>
          </a:prstGeom>
          <a:ln w="0">
            <a:noFill/>
          </a:ln>
        </p:spPr>
      </p:pic>
      <p:sp>
        <p:nvSpPr>
          <p:cNvPr id="187" name="Стрелка вправо 3"/>
          <p:cNvSpPr/>
          <p:nvPr/>
        </p:nvSpPr>
        <p:spPr>
          <a:xfrm>
            <a:off x="914400" y="5359320"/>
            <a:ext cx="1384200" cy="8892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Arial"/>
              </a:rPr>
              <a:t>Особенности 2 закона Ньюто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6640"/>
            <a:ext cx="82296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 справедлив для любых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вляется причиной и определяет ускорение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ктор ускорения сонаправлен с вектором си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а тело действуют несколько сил, берется результирующ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результирующая сила равна нулю, то ускорение равно нулю, т.е. получаем 1 закон Ньют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ретий  закон Ньюто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3" descr="Иллюстрация третьего закона Ньютона учениками на роликовых коньках"/>
          <p:cNvPicPr/>
          <p:nvPr/>
        </p:nvPicPr>
        <p:blipFill>
          <a:blip r:embed="rId1"/>
          <a:stretch/>
        </p:blipFill>
        <p:spPr>
          <a:xfrm>
            <a:off x="1130400" y="914400"/>
            <a:ext cx="736596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ретий  закон Ньюто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3" descr="Иллюстрация третьего закона Ньютона с помощью магнитов на тележках"/>
          <p:cNvPicPr/>
          <p:nvPr/>
        </p:nvPicPr>
        <p:blipFill>
          <a:blip r:embed="rId1"/>
          <a:stretch/>
        </p:blipFill>
        <p:spPr>
          <a:xfrm>
            <a:off x="1193760" y="922320"/>
            <a:ext cx="721368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ретий  закон Ньюто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6" descr="Иллюстрация третьего закон Ньютона с помощью двух динамометров"/>
          <p:cNvPicPr/>
          <p:nvPr/>
        </p:nvPicPr>
        <p:blipFill>
          <a:blip r:embed="rId1"/>
          <a:stretch/>
        </p:blipFill>
        <p:spPr>
          <a:xfrm>
            <a:off x="1038240" y="965160"/>
            <a:ext cx="753444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0" y="4000680"/>
            <a:ext cx="5600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ую презентацию можно использовать при наличии следующих програм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Power Point 200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media Flash Player v9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4191120" y="5016600"/>
            <a:ext cx="4673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урок-презентация используется для учащихся 9 класса (с исключением некоторых слайдов) и 10 кл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203040" y="876240"/>
            <a:ext cx="523260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ить 1 закон ньют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ить 2 закон Ньют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ить 3 закон ньют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сти понятия силы и вес т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еть особенности 2 и 3 зак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ьют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рыть суть зако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знать границы примени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1 закон Ньютона"/>
          <p:cNvPicPr/>
          <p:nvPr/>
        </p:nvPicPr>
        <p:blipFill>
          <a:blip r:embed="rId1"/>
          <a:stretch/>
        </p:blipFill>
        <p:spPr>
          <a:xfrm>
            <a:off x="7364520" y="1077840"/>
            <a:ext cx="1077840" cy="122076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157" name="Picture 5" descr="Второй закон Ньютона"/>
          <p:cNvPicPr/>
          <p:nvPr/>
        </p:nvPicPr>
        <p:blipFill>
          <a:blip r:embed="rId2"/>
          <a:stretch/>
        </p:blipFill>
        <p:spPr>
          <a:xfrm>
            <a:off x="6134040" y="1638360"/>
            <a:ext cx="1117800" cy="1412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8" name="Picture 4" descr="третий закон Ньютона"/>
          <p:cNvPicPr/>
          <p:nvPr/>
        </p:nvPicPr>
        <p:blipFill>
          <a:blip r:embed="rId3"/>
          <a:stretch/>
        </p:blipFill>
        <p:spPr>
          <a:xfrm>
            <a:off x="7304040" y="2833560"/>
            <a:ext cx="1471680" cy="124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ретий  закон Ньюто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360" y="1833120"/>
            <a:ext cx="604188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Силы, возникающие при взаимодействии двух тел, приложены к разным тел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третий закон Ньютона"/>
          <p:cNvPicPr/>
          <p:nvPr/>
        </p:nvPicPr>
        <p:blipFill>
          <a:blip r:embed="rId1"/>
          <a:stretch/>
        </p:blipFill>
        <p:spPr>
          <a:xfrm>
            <a:off x="6033960" y="4218120"/>
            <a:ext cx="294192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Стрелка вправо 1"/>
          <p:cNvSpPr/>
          <p:nvPr/>
        </p:nvSpPr>
        <p:spPr>
          <a:xfrm>
            <a:off x="812880" y="5867280"/>
            <a:ext cx="1434960" cy="72396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ретий  закон Ньюто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833120"/>
            <a:ext cx="604188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Силы, с которыми тела взаимодействуют друг с другом, равны по модулю и направлены вдоль одной прямой в противоположные сто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третий закон Ньютона"/>
          <p:cNvPicPr/>
          <p:nvPr/>
        </p:nvPicPr>
        <p:blipFill>
          <a:blip r:embed="rId1"/>
          <a:stretch/>
        </p:blipFill>
        <p:spPr>
          <a:xfrm>
            <a:off x="6033960" y="4218120"/>
            <a:ext cx="294192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5"/>
          <p:cNvPicPr/>
          <p:nvPr/>
        </p:nvPicPr>
        <p:blipFill>
          <a:blip r:embed="rId1"/>
          <a:stretch/>
        </p:blipFill>
        <p:spPr>
          <a:xfrm>
            <a:off x="504720" y="17640"/>
            <a:ext cx="86392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6"/>
          <p:cNvPicPr/>
          <p:nvPr/>
        </p:nvPicPr>
        <p:blipFill>
          <a:blip r:embed="rId1"/>
          <a:stretch/>
        </p:blipFill>
        <p:spPr>
          <a:xfrm>
            <a:off x="504720" y="-17640"/>
            <a:ext cx="863928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7"/>
          <p:cNvPicPr/>
          <p:nvPr/>
        </p:nvPicPr>
        <p:blipFill>
          <a:blip r:embed="rId1"/>
          <a:stretch/>
        </p:blipFill>
        <p:spPr>
          <a:xfrm>
            <a:off x="577800" y="9360"/>
            <a:ext cx="85662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8"/>
          <p:cNvPicPr/>
          <p:nvPr/>
        </p:nvPicPr>
        <p:blipFill>
          <a:blip r:embed="rId1"/>
          <a:stretch/>
        </p:blipFill>
        <p:spPr>
          <a:xfrm>
            <a:off x="485640" y="-4680"/>
            <a:ext cx="865836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9"/>
          <p:cNvPicPr/>
          <p:nvPr/>
        </p:nvPicPr>
        <p:blipFill>
          <a:blip r:embed="rId1"/>
          <a:stretch/>
        </p:blipFill>
        <p:spPr>
          <a:xfrm>
            <a:off x="512640" y="0"/>
            <a:ext cx="863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Arial"/>
              </a:rPr>
              <a:t>Особенности 3 закона Ньюто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ы появляются только па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да применяется при взаимодействии т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 силы – одной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ы не уравновешиваются, т.к. приложены к разным тел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 верен для любых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Documents and Settings\Vika\Рабочий стол\Рисунок1.png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рвый закон Ньюто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1883880"/>
            <a:ext cx="783252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Если на тело не действуют силы или их действие скомпенсировано, то данное тело находится в состоянии покоя или равномерного прямолинейного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1 закон Ньютона"/>
          <p:cNvPicPr/>
          <p:nvPr/>
        </p:nvPicPr>
        <p:blipFill>
          <a:blip r:embed="rId1"/>
          <a:stretch/>
        </p:blipFill>
        <p:spPr>
          <a:xfrm>
            <a:off x="6183360" y="3618000"/>
            <a:ext cx="26827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законы Ньютона К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урок-презентация развивает следующие ключевые компетенц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но-смысло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культур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о-познаватель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икатив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f533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о-трудов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рвый закон Ньюто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2920" y="1884240"/>
            <a:ext cx="63468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Первый закон Ньютона называют законом инер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Системы отсчета, относительно которых тела движутся с постоянной скоростью при компенсации внешних воздействий на них, называются инерциаль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1 закон Ньютона"/>
          <p:cNvPicPr/>
          <p:nvPr/>
        </p:nvPicPr>
        <p:blipFill>
          <a:blip r:embed="rId1"/>
          <a:stretch/>
        </p:blipFill>
        <p:spPr>
          <a:xfrm>
            <a:off x="6284880" y="3656160"/>
            <a:ext cx="268308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рвый закон Ньюто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560" y="1883880"/>
            <a:ext cx="783252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Существуют такие системы отсчета, относительно которых поступательно движущееся тело сохраняет свою скорость постоянной, если на него не действуют другие тела (или действия других тел компенсируетс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1 закон Ньютона"/>
          <p:cNvPicPr/>
          <p:nvPr/>
        </p:nvPicPr>
        <p:blipFill>
          <a:blip r:embed="rId1"/>
          <a:stretch/>
        </p:blipFill>
        <p:spPr>
          <a:xfrm>
            <a:off x="6183360" y="3618000"/>
            <a:ext cx="26827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Стрелка вправо 1"/>
          <p:cNvSpPr/>
          <p:nvPr/>
        </p:nvSpPr>
        <p:spPr>
          <a:xfrm>
            <a:off x="584280" y="5867280"/>
            <a:ext cx="1155600" cy="7621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7400" y="301320"/>
            <a:ext cx="73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торой  закон Ньюто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2560" y="1414440"/>
            <a:ext cx="66387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533a"/>
                </a:solidFill>
                <a:latin typeface="Arial"/>
              </a:rPr>
              <a:t>Если два тела взаимодействуют друг с другом, то ускорения этих тел обратно пропорциональны их мас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1-9-1"/>
          <p:cNvPicPr/>
          <p:nvPr/>
        </p:nvPicPr>
        <p:blipFill>
          <a:blip r:embed="rId1"/>
          <a:stretch/>
        </p:blipFill>
        <p:spPr>
          <a:xfrm>
            <a:off x="2990880" y="3606840"/>
            <a:ext cx="59338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" y="1196640"/>
            <a:ext cx="8229600" cy="4670280"/>
          </a:xfrm>
          <a:prstGeom prst="rect">
            <a:avLst/>
          </a:prstGeom>
          <a:ln w="0">
            <a:noFill/>
          </a:ln>
        </p:spPr>
      </p:pic>
      <p:sp>
        <p:nvSpPr>
          <p:cNvPr id="174" name="Стрелка вправо 3"/>
          <p:cNvSpPr/>
          <p:nvPr/>
        </p:nvSpPr>
        <p:spPr>
          <a:xfrm>
            <a:off x="571680" y="5816520"/>
            <a:ext cx="1218960" cy="58428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7400" y="2073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57200" y="1196640"/>
            <a:ext cx="8229600" cy="4670280"/>
          </a:xfrm>
          <a:prstGeom prst="rect">
            <a:avLst/>
          </a:prstGeom>
          <a:ln w="0">
            <a:noFill/>
          </a:ln>
        </p:spPr>
      </p:pic>
      <p:sp>
        <p:nvSpPr>
          <p:cNvPr id="177" name="Стрелка вправо 3"/>
          <p:cNvSpPr/>
          <p:nvPr/>
        </p:nvSpPr>
        <p:spPr>
          <a:xfrm>
            <a:off x="977760" y="5549760"/>
            <a:ext cx="1155960" cy="7369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2:51:15Z</dcterms:created>
  <dc:creator>khmelds</dc:creator>
  <dc:description/>
  <cp:keywords/>
  <dc:language>en-US</dc:language>
  <cp:lastModifiedBy>Admin</cp:lastModifiedBy>
  <dcterms:modified xsi:type="dcterms:W3CDTF">2013-11-06T04:31:14Z</dcterms:modified>
  <cp:revision>9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0889761049</vt:lpwstr>
  </property>
</Properties>
</file>